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B7DC-AD3C-4328-84A5-675A04E1D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09F6-F05E-4268-B7E9-77D73978A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D859-DC4B-4293-86E9-A7FD4C100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14BD-2885-4EE9-92EB-FB03061CB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0032-59B6-4F82-9446-917947E93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A55C-9FA4-4894-9094-C2E1B2652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6D84-21E8-4B3F-8F51-09F46503F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A1EF-426C-4A91-AC9E-E794FC457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2CBC-0550-4BF0-8FAC-3BEC204CB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365D-14C4-4E64-89BF-B496CD8F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012A-A728-4F74-A3F8-7F4B77F6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414D-9F44-479F-9073-9BC8FE17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D35A5-5DC6-4035-9E3A-5ACB8183B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ic Organiz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Jacqueline McCa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dle GA R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380880" y="1219320"/>
          <a:ext cx="6095880" cy="746676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  <a:gridCol w="1219320"/>
                <a:gridCol w="1218960"/>
              </a:tblGrid>
              <a:tr h="124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act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l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762120" y="53352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ry Matrix Organizer 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380880" y="1219320"/>
          <a:ext cx="6096240" cy="6222960"/>
        </p:xfrm>
        <a:graphic>
          <a:graphicData uri="http://schemas.openxmlformats.org/drawingml/2006/table">
            <a:tbl>
              <a:tblPr/>
              <a:tblGrid>
                <a:gridCol w="1295640"/>
                <a:gridCol w="1600200"/>
                <a:gridCol w="990360"/>
                <a:gridCol w="1219320"/>
                <a:gridCol w="990720"/>
              </a:tblGrid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olutionary W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xic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vil 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it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onom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graph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o-Polit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762120" y="53352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flict Matrix Organizer 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57400" y="1066680"/>
            <a:ext cx="266688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2819520"/>
            <a:ext cx="61722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7391520"/>
            <a:ext cx="5715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0" y="11430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p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304812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754380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 Idea Sent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3657600"/>
            <a:ext cx="617220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371600" y="36576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33720" y="36576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6576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343400" y="37339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37339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76720" y="2438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76720" y="55627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838080" y="990720"/>
          <a:ext cx="5639040" cy="1143000"/>
        </p:xfrm>
        <a:graphic>
          <a:graphicData uri="http://schemas.openxmlformats.org/drawingml/2006/table">
            <a:tbl>
              <a:tblPr/>
              <a:tblGrid>
                <a:gridCol w="5639040"/>
              </a:tblGrid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838080" y="3048120"/>
          <a:ext cx="5639040" cy="3105000"/>
        </p:xfrm>
        <a:graphic>
          <a:graphicData uri="http://schemas.openxmlformats.org/drawingml/2006/table">
            <a:tbl>
              <a:tblPr/>
              <a:tblGrid>
                <a:gridCol w="1828800"/>
                <a:gridCol w="1524240"/>
                <a:gridCol w="228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l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2895480" y="4267080"/>
            <a:ext cx="1143000" cy="609840"/>
          </a:xfrm>
          <a:prstGeom prst="rightArrow">
            <a:avLst>
              <a:gd name="adj1" fmla="val 50000"/>
              <a:gd name="adj2" fmla="val 4685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838080" y="7315200"/>
          <a:ext cx="5638680" cy="1371600"/>
        </p:xfrm>
        <a:graphic>
          <a:graphicData uri="http://schemas.openxmlformats.org/drawingml/2006/table">
            <a:tbl>
              <a:tblPr/>
              <a:tblGrid>
                <a:gridCol w="563868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Idea Sente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"/>
          <p:cNvSpPr/>
          <p:nvPr/>
        </p:nvSpPr>
        <p:spPr>
          <a:xfrm>
            <a:off x="3352680" y="2286000"/>
            <a:ext cx="381240" cy="609480"/>
          </a:xfrm>
          <a:prstGeom prst="downArrow">
            <a:avLst>
              <a:gd name="adj1" fmla="val 50000"/>
              <a:gd name="adj2" fmla="val 399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24080" y="6400800"/>
            <a:ext cx="381240" cy="609480"/>
          </a:xfrm>
          <a:prstGeom prst="downArrow">
            <a:avLst>
              <a:gd name="adj1" fmla="val 50000"/>
              <a:gd name="adj2" fmla="val 399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838080" y="990720"/>
          <a:ext cx="5639040" cy="1143000"/>
        </p:xfrm>
        <a:graphic>
          <a:graphicData uri="http://schemas.openxmlformats.org/drawingml/2006/table">
            <a:tbl>
              <a:tblPr/>
              <a:tblGrid>
                <a:gridCol w="5639040"/>
              </a:tblGrid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838080" y="7315200"/>
          <a:ext cx="5638680" cy="1371600"/>
        </p:xfrm>
        <a:graphic>
          <a:graphicData uri="http://schemas.openxmlformats.org/drawingml/2006/table">
            <a:tbl>
              <a:tblPr/>
              <a:tblGrid>
                <a:gridCol w="563868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Idea Sente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3352680" y="2286000"/>
            <a:ext cx="381240" cy="609480"/>
          </a:xfrm>
          <a:prstGeom prst="downArrow">
            <a:avLst>
              <a:gd name="adj1" fmla="val 50000"/>
              <a:gd name="adj2" fmla="val 399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124080" y="6400800"/>
            <a:ext cx="381240" cy="609480"/>
          </a:xfrm>
          <a:prstGeom prst="downArrow">
            <a:avLst>
              <a:gd name="adj1" fmla="val 50000"/>
              <a:gd name="adj2" fmla="val 399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838080" y="3048120"/>
          <a:ext cx="5639040" cy="3287520"/>
        </p:xfrm>
        <a:graphic>
          <a:graphicData uri="http://schemas.openxmlformats.org/drawingml/2006/table">
            <a:tbl>
              <a:tblPr/>
              <a:tblGrid>
                <a:gridCol w="1828800"/>
                <a:gridCol w="1524240"/>
                <a:gridCol w="2286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respect 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380880" y="990720"/>
          <a:ext cx="6248520" cy="1143000"/>
        </p:xfrm>
        <a:graphic>
          <a:graphicData uri="http://schemas.openxmlformats.org/drawingml/2006/table">
            <a:tbl>
              <a:tblPr/>
              <a:tblGrid>
                <a:gridCol w="6248520"/>
              </a:tblGrid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457200" y="7315200"/>
          <a:ext cx="6172200" cy="1371600"/>
        </p:xfrm>
        <a:graphic>
          <a:graphicData uri="http://schemas.openxmlformats.org/drawingml/2006/table">
            <a:tbl>
              <a:tblPr/>
              <a:tblGrid>
                <a:gridCol w="61722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Idea Sente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3352680" y="2286000"/>
            <a:ext cx="381240" cy="609480"/>
          </a:xfrm>
          <a:prstGeom prst="downArrow">
            <a:avLst>
              <a:gd name="adj1" fmla="val 50000"/>
              <a:gd name="adj2" fmla="val 399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24080" y="6400800"/>
            <a:ext cx="381240" cy="609480"/>
          </a:xfrm>
          <a:prstGeom prst="downArrow">
            <a:avLst>
              <a:gd name="adj1" fmla="val 50000"/>
              <a:gd name="adj2" fmla="val 399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04920" y="2971800"/>
          <a:ext cx="6323040" cy="3352680"/>
        </p:xfrm>
        <a:graphic>
          <a:graphicData uri="http://schemas.openxmlformats.org/drawingml/2006/table">
            <a:tbl>
              <a:tblPr/>
              <a:tblGrid>
                <a:gridCol w="903240"/>
                <a:gridCol w="903240"/>
                <a:gridCol w="903240"/>
                <a:gridCol w="903240"/>
                <a:gridCol w="903240"/>
                <a:gridCol w="903240"/>
                <a:gridCol w="903600"/>
              </a:tblGrid>
              <a:tr h="8380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que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1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52" name=""/>
          <p:cNvGrpSpPr/>
          <p:nvPr/>
        </p:nvGrpSpPr>
        <p:grpSpPr>
          <a:xfrm>
            <a:off x="609480" y="3657600"/>
            <a:ext cx="5715000" cy="76320"/>
            <a:chOff x="609480" y="3657600"/>
            <a:chExt cx="5715000" cy="76320"/>
          </a:xfrm>
        </p:grpSpPr>
        <p:sp>
          <p:nvSpPr>
            <p:cNvPr id="153" name=""/>
            <p:cNvSpPr/>
            <p:nvPr/>
          </p:nvSpPr>
          <p:spPr>
            <a:xfrm>
              <a:off x="609480" y="3657600"/>
              <a:ext cx="380880" cy="76320"/>
            </a:xfrm>
            <a:prstGeom prst="rightArrow">
              <a:avLst>
                <a:gd name="adj1" fmla="val 50000"/>
                <a:gd name="adj2" fmla="val 124764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00200" y="3657600"/>
              <a:ext cx="380880" cy="76320"/>
            </a:xfrm>
            <a:prstGeom prst="rightArrow">
              <a:avLst>
                <a:gd name="adj1" fmla="val 50000"/>
                <a:gd name="adj2" fmla="val 124764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61960" y="3657600"/>
              <a:ext cx="381240" cy="76320"/>
            </a:xfrm>
            <a:prstGeom prst="rightArrow">
              <a:avLst>
                <a:gd name="adj1" fmla="val 50000"/>
                <a:gd name="adj2" fmla="val 124882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276360" y="3657600"/>
              <a:ext cx="381240" cy="76320"/>
            </a:xfrm>
            <a:prstGeom prst="rightArrow">
              <a:avLst>
                <a:gd name="adj1" fmla="val 50000"/>
                <a:gd name="adj2" fmla="val 124882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267080" y="3657600"/>
              <a:ext cx="380880" cy="76320"/>
            </a:xfrm>
            <a:prstGeom prst="rightArrow">
              <a:avLst>
                <a:gd name="adj1" fmla="val 50000"/>
                <a:gd name="adj2" fmla="val 124764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029200" y="3657600"/>
              <a:ext cx="380880" cy="76320"/>
            </a:xfrm>
            <a:prstGeom prst="rightArrow">
              <a:avLst>
                <a:gd name="adj1" fmla="val 50000"/>
                <a:gd name="adj2" fmla="val 124764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943600" y="3657600"/>
              <a:ext cx="380880" cy="76320"/>
            </a:xfrm>
            <a:prstGeom prst="rightArrow">
              <a:avLst>
                <a:gd name="adj1" fmla="val 50000"/>
                <a:gd name="adj2" fmla="val 124764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sation Graphic Organiz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343080" y="3657600"/>
          <a:ext cx="6133680" cy="1676520"/>
        </p:xfrm>
        <a:graphic>
          <a:graphicData uri="http://schemas.openxmlformats.org/drawingml/2006/table">
            <a:tbl>
              <a:tblPr/>
              <a:tblGrid>
                <a:gridCol w="6133680"/>
              </a:tblGrid>
              <a:tr h="167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609480" y="2133720"/>
          <a:ext cx="5905440" cy="609480"/>
        </p:xfrm>
        <a:graphic>
          <a:graphicData uri="http://schemas.openxmlformats.org/drawingml/2006/table">
            <a:tbl>
              <a:tblPr/>
              <a:tblGrid>
                <a:gridCol w="590544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228600" y="6324480"/>
            <a:ext cx="19051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62320" y="6324480"/>
            <a:ext cx="19047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495680" y="6324480"/>
            <a:ext cx="19051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57600" y="2743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19320" y="5334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52680" y="5334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410080" y="5334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5638680"/>
            <a:ext cx="1600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c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819520" y="3048120"/>
            <a:ext cx="1600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c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5715000"/>
            <a:ext cx="1600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c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90920" y="5715000"/>
            <a:ext cx="1600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c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343080" y="2133720"/>
          <a:ext cx="2933640" cy="4614840"/>
        </p:xfrm>
        <a:graphic>
          <a:graphicData uri="http://schemas.openxmlformats.org/drawingml/2006/table">
            <a:tbl>
              <a:tblPr/>
              <a:tblGrid>
                <a:gridCol w="293364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ilar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038480" y="609480"/>
          <a:ext cx="2514600" cy="1067040"/>
        </p:xfrm>
        <a:graphic>
          <a:graphicData uri="http://schemas.openxmlformats.org/drawingml/2006/table">
            <a:tbl>
              <a:tblPr/>
              <a:tblGrid>
                <a:gridCol w="251460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miliar Concep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1143000" y="7620120"/>
          <a:ext cx="4114800" cy="1218600"/>
        </p:xfrm>
        <a:graphic>
          <a:graphicData uri="http://schemas.openxmlformats.org/drawingml/2006/table">
            <a:tbl>
              <a:tblPr/>
              <a:tblGrid>
                <a:gridCol w="411480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onship Catego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343080" y="609480"/>
          <a:ext cx="2095200" cy="1067040"/>
        </p:xfrm>
        <a:graphic>
          <a:graphicData uri="http://schemas.openxmlformats.org/drawingml/2006/table">
            <a:tbl>
              <a:tblPr/>
              <a:tblGrid>
                <a:gridCol w="2095200"/>
              </a:tblGrid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Concep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3581280" y="2133720"/>
          <a:ext cx="3009960" cy="4660920"/>
        </p:xfrm>
        <a:graphic>
          <a:graphicData uri="http://schemas.openxmlformats.org/drawingml/2006/table">
            <a:tbl>
              <a:tblPr/>
              <a:tblGrid>
                <a:gridCol w="300996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2590920" y="1066680"/>
            <a:ext cx="1295280" cy="228600"/>
          </a:xfrm>
          <a:prstGeom prst="leftRightArrow">
            <a:avLst>
              <a:gd name="adj1" fmla="val 50000"/>
              <a:gd name="adj2" fmla="val 1127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2514240" y="1219320"/>
            <a:ext cx="609480" cy="761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352680" y="1219320"/>
            <a:ext cx="68580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logy Graphic Organi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3049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905120" y="2057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429000" y="1447560"/>
            <a:ext cx="76320" cy="655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3962520"/>
            <a:ext cx="5639040" cy="7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914400" y="1676520"/>
            <a:ext cx="464832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66680" y="1828800"/>
            <a:ext cx="5410440" cy="487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2895480"/>
            <a:ext cx="2361960" cy="2362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3886200"/>
            <a:ext cx="144756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0" y="6858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80880" y="304920"/>
            <a:ext cx="266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30492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use/Eff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990720" y="1371600"/>
          <a:ext cx="4724280" cy="2239560"/>
        </p:xfrm>
        <a:graphic>
          <a:graphicData uri="http://schemas.openxmlformats.org/drawingml/2006/table">
            <a:tbl>
              <a:tblPr/>
              <a:tblGrid>
                <a:gridCol w="472428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e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990720" y="5486400"/>
          <a:ext cx="4724280" cy="2544480"/>
        </p:xfrm>
        <a:graphic>
          <a:graphicData uri="http://schemas.openxmlformats.org/drawingml/2006/table">
            <a:tbl>
              <a:tblPr/>
              <a:tblGrid>
                <a:gridCol w="4724280"/>
              </a:tblGrid>
              <a:tr h="77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ct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3200400" y="3886200"/>
            <a:ext cx="152280" cy="1371600"/>
          </a:xfrm>
          <a:prstGeom prst="downArrow">
            <a:avLst>
              <a:gd name="adj1" fmla="val 50000"/>
              <a:gd name="adj2" fmla="val 22517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80880" y="762120"/>
          <a:ext cx="6172200" cy="8087760"/>
        </p:xfrm>
        <a:graphic>
          <a:graphicData uri="http://schemas.openxmlformats.org/drawingml/2006/table">
            <a:tbl>
              <a:tblPr/>
              <a:tblGrid>
                <a:gridCol w="6172200"/>
              </a:tblGrid>
              <a:tr h="78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ed Reading/Thinking Ac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I know I know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I think I know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I think I’ll learn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I know I learned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80880" y="3808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re/Contr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19810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657600" y="19810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143000" y="3048120"/>
          <a:ext cx="4572000" cy="207000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ilarit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1219320" y="6172200"/>
          <a:ext cx="4572000" cy="207000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"/>
          <p:cNvSpPr/>
          <p:nvPr/>
        </p:nvSpPr>
        <p:spPr>
          <a:xfrm>
            <a:off x="2781360" y="6934320"/>
            <a:ext cx="1219320" cy="75960"/>
          </a:xfrm>
          <a:prstGeom prst="leftRightArrow">
            <a:avLst>
              <a:gd name="adj1" fmla="val 50000"/>
              <a:gd name="adj2" fmla="val 31955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781360" y="7391520"/>
            <a:ext cx="1219320" cy="75960"/>
          </a:xfrm>
          <a:prstGeom prst="leftRightArrow">
            <a:avLst>
              <a:gd name="adj1" fmla="val 50000"/>
              <a:gd name="adj2" fmla="val 31955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781360" y="7924680"/>
            <a:ext cx="1219320" cy="76320"/>
          </a:xfrm>
          <a:prstGeom prst="leftRightArrow">
            <a:avLst>
              <a:gd name="adj1" fmla="val 50000"/>
              <a:gd name="adj2" fmla="val 3180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80880" y="228600"/>
            <a:ext cx="320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609480" y="457200"/>
          <a:ext cx="4572000" cy="53352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lem/Sol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609480" y="1600200"/>
          <a:ext cx="5638680" cy="6933960"/>
        </p:xfrm>
        <a:graphic>
          <a:graphicData uri="http://schemas.openxmlformats.org/drawingml/2006/table">
            <a:tbl>
              <a:tblPr/>
              <a:tblGrid>
                <a:gridCol w="2819160"/>
                <a:gridCol w="2819520"/>
              </a:tblGrid>
              <a:tr h="69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l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80880" y="228600"/>
            <a:ext cx="320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609480" y="457200"/>
          <a:ext cx="4572000" cy="53352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lem/Solution/Resul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609480" y="1600200"/>
          <a:ext cx="5639040" cy="310500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l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990720" y="5562720"/>
          <a:ext cx="4572000" cy="304776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3" name=""/>
          <p:cNvSpPr/>
          <p:nvPr/>
        </p:nvSpPr>
        <p:spPr>
          <a:xfrm>
            <a:off x="4343400" y="472428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200400" y="190512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" name=""/>
          <p:cNvGraphicFramePr/>
          <p:nvPr/>
        </p:nvGraphicFramePr>
        <p:xfrm>
          <a:off x="457200" y="380880"/>
          <a:ext cx="4572000" cy="60984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/Or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533520" y="1905120"/>
          <a:ext cx="6019200" cy="6857640"/>
        </p:xfrm>
        <a:graphic>
          <a:graphicData uri="http://schemas.openxmlformats.org/drawingml/2006/table">
            <a:tbl>
              <a:tblPr/>
              <a:tblGrid>
                <a:gridCol w="6019200"/>
              </a:tblGrid>
              <a:tr h="11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n 2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n 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n 4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n 5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457200" y="380880"/>
          <a:ext cx="4419720" cy="533520"/>
        </p:xfrm>
        <a:graphic>
          <a:graphicData uri="http://schemas.openxmlformats.org/drawingml/2006/table">
            <a:tbl>
              <a:tblPr/>
              <a:tblGrid>
                <a:gridCol w="44197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ry Map Exam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457200" y="1066680"/>
          <a:ext cx="6095880" cy="59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59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am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457200" y="1828800"/>
          <a:ext cx="6095880" cy="1515960"/>
        </p:xfrm>
        <a:graphic>
          <a:graphicData uri="http://schemas.openxmlformats.org/drawingml/2006/table">
            <a:tbl>
              <a:tblPr/>
              <a:tblGrid>
                <a:gridCol w="1600200"/>
                <a:gridCol w="2387520"/>
                <a:gridCol w="21081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acters: (wh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457200" y="3505320"/>
          <a:ext cx="6095880" cy="1523880"/>
        </p:xfrm>
        <a:graphic>
          <a:graphicData uri="http://schemas.openxmlformats.org/drawingml/2006/table">
            <a:tbl>
              <a:tblPr/>
              <a:tblGrid>
                <a:gridCol w="1600200"/>
                <a:gridCol w="44956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ting: (Wher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457200" y="5181480"/>
          <a:ext cx="6095880" cy="2146320"/>
        </p:xfrm>
        <a:graphic>
          <a:graphicData uri="http://schemas.openxmlformats.org/drawingml/2006/table">
            <a:tbl>
              <a:tblPr/>
              <a:tblGrid>
                <a:gridCol w="1676520"/>
                <a:gridCol w="44193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ning:  (Firs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dle:  (Nex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:  (Las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457200" y="7620120"/>
          <a:ext cx="6095880" cy="1220760"/>
        </p:xfrm>
        <a:graphic>
          <a:graphicData uri="http://schemas.openxmlformats.org/drawingml/2006/table">
            <a:tbl>
              <a:tblPr/>
              <a:tblGrid>
                <a:gridCol w="1523880"/>
                <a:gridCol w="45720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Idea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"/>
          <p:cNvGraphicFramePr/>
          <p:nvPr/>
        </p:nvGraphicFramePr>
        <p:xfrm>
          <a:off x="457200" y="380880"/>
          <a:ext cx="4419720" cy="533520"/>
        </p:xfrm>
        <a:graphic>
          <a:graphicData uri="http://schemas.openxmlformats.org/drawingml/2006/table">
            <a:tbl>
              <a:tblPr/>
              <a:tblGrid>
                <a:gridCol w="44197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ry Map Exam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457200" y="1066680"/>
          <a:ext cx="6095880" cy="59040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59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am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457200" y="1828800"/>
          <a:ext cx="6095880" cy="1515960"/>
        </p:xfrm>
        <a:graphic>
          <a:graphicData uri="http://schemas.openxmlformats.org/drawingml/2006/table">
            <a:tbl>
              <a:tblPr/>
              <a:tblGrid>
                <a:gridCol w="1600200"/>
                <a:gridCol w="2387520"/>
                <a:gridCol w="21081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acters: (wh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457200" y="3505320"/>
          <a:ext cx="6095880" cy="1523880"/>
        </p:xfrm>
        <a:graphic>
          <a:graphicData uri="http://schemas.openxmlformats.org/drawingml/2006/table">
            <a:tbl>
              <a:tblPr/>
              <a:tblGrid>
                <a:gridCol w="1600200"/>
                <a:gridCol w="44956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ting: (Wher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457200" y="5181480"/>
          <a:ext cx="6095880" cy="2146320"/>
        </p:xfrm>
        <a:graphic>
          <a:graphicData uri="http://schemas.openxmlformats.org/drawingml/2006/table">
            <a:tbl>
              <a:tblPr/>
              <a:tblGrid>
                <a:gridCol w="1676520"/>
                <a:gridCol w="44193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lem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nt 1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nt 2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nt 3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nt 4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nt 5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457200" y="7620120"/>
          <a:ext cx="6095880" cy="1220760"/>
        </p:xfrm>
        <a:graphic>
          <a:graphicData uri="http://schemas.openxmlformats.org/drawingml/2006/table">
            <a:tbl>
              <a:tblPr/>
              <a:tblGrid>
                <a:gridCol w="1523880"/>
                <a:gridCol w="45720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ution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lusion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457200" y="380880"/>
          <a:ext cx="4419720" cy="533520"/>
        </p:xfrm>
        <a:graphic>
          <a:graphicData uri="http://schemas.openxmlformats.org/drawingml/2006/table">
            <a:tbl>
              <a:tblPr/>
              <a:tblGrid>
                <a:gridCol w="44197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ry Map Exam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457200" y="1066680"/>
          <a:ext cx="6095880" cy="38124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457200" y="2362320"/>
          <a:ext cx="6095880" cy="909360"/>
        </p:xfrm>
        <a:graphic>
          <a:graphicData uri="http://schemas.openxmlformats.org/drawingml/2006/table">
            <a:tbl>
              <a:tblPr/>
              <a:tblGrid>
                <a:gridCol w="1828800"/>
                <a:gridCol w="2158920"/>
                <a:gridCol w="21081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acters: (wh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agon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agon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457200" y="1600200"/>
          <a:ext cx="6095880" cy="607680"/>
        </p:xfrm>
        <a:graphic>
          <a:graphicData uri="http://schemas.openxmlformats.org/drawingml/2006/table">
            <a:tbl>
              <a:tblPr/>
              <a:tblGrid>
                <a:gridCol w="1676520"/>
                <a:gridCol w="44193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ting: (Wher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380880" y="3429000"/>
          <a:ext cx="6096240" cy="2607840"/>
        </p:xfrm>
        <a:graphic>
          <a:graphicData uri="http://schemas.openxmlformats.org/drawingml/2006/table">
            <a:tbl>
              <a:tblPr/>
              <a:tblGrid>
                <a:gridCol w="1676520"/>
                <a:gridCol w="44197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lem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y 1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y 2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y 3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y 4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max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ost important difficult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457200" y="6248520"/>
          <a:ext cx="6095880" cy="1452240"/>
        </p:xfrm>
        <a:graphic>
          <a:graphicData uri="http://schemas.openxmlformats.org/drawingml/2006/table">
            <a:tbl>
              <a:tblPr/>
              <a:tblGrid>
                <a:gridCol w="1523880"/>
                <a:gridCol w="4572000"/>
              </a:tblGrid>
              <a:tr h="52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lution/ Conclu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"/>
          <p:cNvSpPr/>
          <p:nvPr/>
        </p:nvSpPr>
        <p:spPr>
          <a:xfrm>
            <a:off x="457200" y="86104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1447920" y="7924320"/>
            <a:ext cx="30477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419720" y="792468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34120" y="8610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800" y="822816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tagon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7924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icul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00200" y="815328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600200" y="8153280"/>
            <a:ext cx="11430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1600200" y="8000640"/>
            <a:ext cx="22096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953240" y="784872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m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488560" y="8229600"/>
            <a:ext cx="96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4419360" y="7924680"/>
            <a:ext cx="5331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5105520" y="8381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564880" y="8610480"/>
            <a:ext cx="101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"/>
          <p:cNvGraphicFramePr/>
          <p:nvPr/>
        </p:nvGraphicFramePr>
        <p:xfrm>
          <a:off x="1066680" y="304920"/>
          <a:ext cx="4572000" cy="53316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609480" y="1371600"/>
          <a:ext cx="1828800" cy="1515960"/>
        </p:xfrm>
        <a:graphic>
          <a:graphicData uri="http://schemas.openxmlformats.org/drawingml/2006/table">
            <a:tbl>
              <a:tblPr/>
              <a:tblGrid>
                <a:gridCol w="1828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Charact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4267080" y="1371600"/>
          <a:ext cx="1828800" cy="1515960"/>
        </p:xfrm>
        <a:graphic>
          <a:graphicData uri="http://schemas.openxmlformats.org/drawingml/2006/table">
            <a:tbl>
              <a:tblPr/>
              <a:tblGrid>
                <a:gridCol w="1828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 Charact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609480" y="3200400"/>
          <a:ext cx="5486400" cy="1519200"/>
        </p:xfrm>
        <a:graphic>
          <a:graphicData uri="http://schemas.openxmlformats.org/drawingml/2006/table">
            <a:tbl>
              <a:tblPr/>
              <a:tblGrid>
                <a:gridCol w="5486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ting and Time Fr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2286000" y="5334120"/>
          <a:ext cx="1828800" cy="1515960"/>
        </p:xfrm>
        <a:graphic>
          <a:graphicData uri="http://schemas.openxmlformats.org/drawingml/2006/table">
            <a:tbl>
              <a:tblPr/>
              <a:tblGrid>
                <a:gridCol w="1828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304920" y="5334120"/>
          <a:ext cx="1828800" cy="1515960"/>
        </p:xfrm>
        <a:graphic>
          <a:graphicData uri="http://schemas.openxmlformats.org/drawingml/2006/table">
            <a:tbl>
              <a:tblPr/>
              <a:tblGrid>
                <a:gridCol w="1828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n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4419720" y="5334120"/>
          <a:ext cx="1828800" cy="1517400"/>
        </p:xfrm>
        <a:graphic>
          <a:graphicData uri="http://schemas.openxmlformats.org/drawingml/2006/table">
            <a:tbl>
              <a:tblPr/>
              <a:tblGrid>
                <a:gridCol w="1828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685800" y="7086600"/>
          <a:ext cx="4572000" cy="171468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Idea/ Mor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7" name=""/>
          <p:cNvGraphicFramePr/>
          <p:nvPr/>
        </p:nvGraphicFramePr>
        <p:xfrm>
          <a:off x="304920" y="609480"/>
          <a:ext cx="6171840" cy="457200"/>
        </p:xfrm>
        <a:graphic>
          <a:graphicData uri="http://schemas.openxmlformats.org/drawingml/2006/table">
            <a:tbl>
              <a:tblPr/>
              <a:tblGrid>
                <a:gridCol w="617184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ry Map Ex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533520" y="1447920"/>
          <a:ext cx="1981080" cy="1066680"/>
        </p:xfrm>
        <a:graphic>
          <a:graphicData uri="http://schemas.openxmlformats.org/drawingml/2006/table">
            <a:tbl>
              <a:tblPr/>
              <a:tblGrid>
                <a:gridCol w="198108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acter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4114800" y="1447920"/>
          <a:ext cx="1981080" cy="1066680"/>
        </p:xfrm>
        <a:graphic>
          <a:graphicData uri="http://schemas.openxmlformats.org/drawingml/2006/table">
            <a:tbl>
              <a:tblPr/>
              <a:tblGrid>
                <a:gridCol w="198108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ting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1447920" y="2895480"/>
          <a:ext cx="3657600" cy="762120"/>
        </p:xfrm>
        <a:graphic>
          <a:graphicData uri="http://schemas.openxmlformats.org/drawingml/2006/table">
            <a:tbl>
              <a:tblPr/>
              <a:tblGrid>
                <a:gridCol w="365760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al/ Problem/ Conflict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1143000" y="4114800"/>
          <a:ext cx="4419720" cy="1906560"/>
        </p:xfrm>
        <a:graphic>
          <a:graphicData uri="http://schemas.openxmlformats.org/drawingml/2006/table">
            <a:tbl>
              <a:tblPr/>
              <a:tblGrid>
                <a:gridCol w="4419720"/>
              </a:tblGrid>
              <a:tr h="191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 Event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1523880" y="6324480"/>
          <a:ext cx="3657600" cy="762120"/>
        </p:xfrm>
        <a:graphic>
          <a:graphicData uri="http://schemas.openxmlformats.org/drawingml/2006/table">
            <a:tbl>
              <a:tblPr/>
              <a:tblGrid>
                <a:gridCol w="365760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ing/Resolution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1447920" y="7772400"/>
          <a:ext cx="3657600" cy="762120"/>
        </p:xfrm>
        <a:graphic>
          <a:graphicData uri="http://schemas.openxmlformats.org/drawingml/2006/table">
            <a:tbl>
              <a:tblPr/>
              <a:tblGrid>
                <a:gridCol w="365760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al/ Theme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4" name=""/>
          <p:cNvSpPr/>
          <p:nvPr/>
        </p:nvSpPr>
        <p:spPr>
          <a:xfrm>
            <a:off x="3048120" y="7086600"/>
            <a:ext cx="228600" cy="6858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124080" y="6019920"/>
            <a:ext cx="228600" cy="304560"/>
          </a:xfrm>
          <a:prstGeom prst="downArrow">
            <a:avLst>
              <a:gd name="adj1" fmla="val 50000"/>
              <a:gd name="adj2" fmla="val 3330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4080" y="365760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52480" y="251460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724280" y="251460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"/>
          <p:cNvGrpSpPr/>
          <p:nvPr/>
        </p:nvGrpSpPr>
        <p:grpSpPr>
          <a:xfrm>
            <a:off x="-145800" y="1571760"/>
            <a:ext cx="7149600" cy="7149240"/>
            <a:chOff x="-145800" y="1571760"/>
            <a:chExt cx="7149600" cy="7149240"/>
          </a:xfrm>
        </p:grpSpPr>
        <p:sp>
          <p:nvSpPr>
            <p:cNvPr id="270" name="_s30724"/>
            <p:cNvSpPr/>
            <p:nvPr/>
          </p:nvSpPr>
          <p:spPr>
            <a:xfrm>
              <a:off x="870120" y="2587680"/>
              <a:ext cx="5117760" cy="5118120"/>
            </a:xfrm>
            <a:prstGeom prst="blockArc">
              <a:avLst>
                <a:gd name="adj1" fmla="val 15120000"/>
                <a:gd name="adj2" fmla="val 6480000"/>
                <a:gd name="adj3" fmla="val 1000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_s30725"/>
            <p:cNvSpPr/>
            <p:nvPr/>
          </p:nvSpPr>
          <p:spPr>
            <a:xfrm rot="4320000">
              <a:off x="870120" y="2587680"/>
              <a:ext cx="5118120" cy="5117760"/>
            </a:xfrm>
            <a:prstGeom prst="blockArc">
              <a:avLst>
                <a:gd name="adj1" fmla="val 15120000"/>
                <a:gd name="adj2" fmla="val 6480000"/>
                <a:gd name="adj3" fmla="val 1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_s30726"/>
            <p:cNvSpPr/>
            <p:nvPr/>
          </p:nvSpPr>
          <p:spPr>
            <a:xfrm rot="8640000">
              <a:off x="869760" y="2587320"/>
              <a:ext cx="5117760" cy="5118120"/>
            </a:xfrm>
            <a:prstGeom prst="blockArc">
              <a:avLst>
                <a:gd name="adj1" fmla="val 15120000"/>
                <a:gd name="adj2" fmla="val 6480000"/>
                <a:gd name="adj3" fmla="val 1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_s30727"/>
            <p:cNvSpPr/>
            <p:nvPr/>
          </p:nvSpPr>
          <p:spPr>
            <a:xfrm rot="12960000">
              <a:off x="870120" y="2586960"/>
              <a:ext cx="5117760" cy="5118120"/>
            </a:xfrm>
            <a:prstGeom prst="blockArc">
              <a:avLst>
                <a:gd name="adj1" fmla="val 15120000"/>
                <a:gd name="adj2" fmla="val 6480000"/>
                <a:gd name="adj3" fmla="val 1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_s30728"/>
            <p:cNvSpPr/>
            <p:nvPr/>
          </p:nvSpPr>
          <p:spPr>
            <a:xfrm rot="17280000">
              <a:off x="869760" y="2587320"/>
              <a:ext cx="5118120" cy="5117760"/>
            </a:xfrm>
            <a:prstGeom prst="blockArc">
              <a:avLst>
                <a:gd name="adj1" fmla="val 15120000"/>
                <a:gd name="adj2" fmla="val 6480000"/>
                <a:gd name="adj3" fmla="val 1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_s30729"/>
            <p:cNvSpPr/>
            <p:nvPr/>
          </p:nvSpPr>
          <p:spPr>
            <a:xfrm>
              <a:off x="4216320" y="2717640"/>
              <a:ext cx="1130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gin th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_s30730"/>
            <p:cNvSpPr/>
            <p:nvPr/>
          </p:nvSpPr>
          <p:spPr>
            <a:xfrm>
              <a:off x="676440" y="5292720"/>
              <a:ext cx="113004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xt P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_s30731"/>
            <p:cNvSpPr/>
            <p:nvPr/>
          </p:nvSpPr>
          <p:spPr>
            <a:xfrm>
              <a:off x="1511280" y="2719440"/>
              <a:ext cx="1130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nd of S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_s30732"/>
            <p:cNvSpPr/>
            <p:nvPr/>
          </p:nvSpPr>
          <p:spPr>
            <a:xfrm>
              <a:off x="5052960" y="5291280"/>
              <a:ext cx="11304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xt p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_s30733"/>
            <p:cNvSpPr/>
            <p:nvPr/>
          </p:nvSpPr>
          <p:spPr>
            <a:xfrm>
              <a:off x="2865600" y="6881760"/>
              <a:ext cx="113004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xt P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1255800">
              <a:off x="1143000" y="6171120"/>
              <a:ext cx="685800" cy="609840"/>
            </a:xfrm>
            <a:prstGeom prst="triangle">
              <a:avLst>
                <a:gd name="adj" fmla="val 4642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560" y="1752120"/>
            <a:ext cx="617220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 of the sto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5410080" y="5104800"/>
            <a:ext cx="609840" cy="533160"/>
          </a:xfrm>
          <a:prstGeom prst="triangle">
            <a:avLst>
              <a:gd name="adj" fmla="val 4642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 rot="20384400">
            <a:off x="1294920" y="3505320"/>
            <a:ext cx="685800" cy="609480"/>
          </a:xfrm>
          <a:prstGeom prst="triangle">
            <a:avLst>
              <a:gd name="adj" fmla="val 5881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 rot="4235400">
            <a:off x="3722760" y="7225920"/>
            <a:ext cx="692280" cy="244440"/>
          </a:xfrm>
          <a:prstGeom prst="triangle">
            <a:avLst>
              <a:gd name="adj" fmla="val 4642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62120" y="380880"/>
            <a:ext cx="5410080" cy="14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ycle Grap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Remembering story sequence in chronological order. Fill in the blocks with main events of the story in chronological 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28600" y="8001000"/>
            <a:ext cx="61722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 point, or moral of the sto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380880" y="762120"/>
          <a:ext cx="6172200" cy="8153280"/>
        </p:xfrm>
        <a:graphic>
          <a:graphicData uri="http://schemas.openxmlformats.org/drawingml/2006/table">
            <a:tbl>
              <a:tblPr/>
              <a:tblGrid>
                <a:gridCol w="6172200"/>
              </a:tblGrid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sential question of the lesson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ating learning strategies: (learners mentally activ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gnitive teaching strategies: (Distributed guided practice ad/or distributed summarizing in pairs; graphic organizers; et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arizing strategies: Learner individually or in pairs summarizes and answers essential questi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380880" y="6705720"/>
            <a:ext cx="6096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6934320"/>
            <a:ext cx="396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mpts for distributed practic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457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quisition Lesson Planning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304560" y="1143000"/>
            <a:ext cx="6172200" cy="71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story opens a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blem begins when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ly, the problem in this story is solved when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story 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title"/>
          </p:nvPr>
        </p:nvSpPr>
        <p:spPr>
          <a:xfrm>
            <a:off x="342720" y="366840"/>
            <a:ext cx="6172200" cy="3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med Paragraph Out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495680" y="261144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828800" y="401796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33520" y="167652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33520" y="214488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33520" y="307980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33520" y="354816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3520" y="448452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828800" y="495288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33520" y="542124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33520" y="635652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09480" y="682452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33520" y="776124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895480" y="72946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33520" y="822960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920" y="30492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cter Map: Students Use the Character Map to write short sentences about the what the character did or said in the story. Then write a sentence beneath the figure that describes the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04920" y="1676520"/>
            <a:ext cx="58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cter Map for: 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609480" y="2286000"/>
            <a:ext cx="5791320" cy="6629400"/>
            <a:chOff x="609480" y="2286000"/>
            <a:chExt cx="5791320" cy="6629400"/>
          </a:xfrm>
        </p:grpSpPr>
        <p:grpSp>
          <p:nvGrpSpPr>
            <p:cNvPr id="307" name=""/>
            <p:cNvGrpSpPr/>
            <p:nvPr/>
          </p:nvGrpSpPr>
          <p:grpSpPr>
            <a:xfrm>
              <a:off x="1904760" y="2286000"/>
              <a:ext cx="2819520" cy="5409360"/>
              <a:chOff x="1904760" y="2286000"/>
              <a:chExt cx="2819520" cy="5409360"/>
            </a:xfrm>
          </p:grpSpPr>
          <p:sp>
            <p:nvSpPr>
              <p:cNvPr id="308" name=""/>
              <p:cNvSpPr/>
              <p:nvPr/>
            </p:nvSpPr>
            <p:spPr>
              <a:xfrm>
                <a:off x="2865960" y="2286000"/>
                <a:ext cx="960840" cy="1067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314520" y="3353760"/>
                <a:ext cx="0" cy="2135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3314520" y="2926440"/>
                <a:ext cx="1409760" cy="106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H="1" flipV="1">
                <a:off x="1904760" y="2926440"/>
                <a:ext cx="1409400" cy="106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2" name=""/>
              <p:cNvGrpSpPr/>
              <p:nvPr/>
            </p:nvGrpSpPr>
            <p:grpSpPr>
              <a:xfrm>
                <a:off x="3314520" y="5489280"/>
                <a:ext cx="960840" cy="2206080"/>
                <a:chOff x="3314520" y="5489280"/>
                <a:chExt cx="960840" cy="220608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3314520" y="5489280"/>
                  <a:ext cx="960840" cy="924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flipH="1">
                  <a:off x="4146840" y="6414120"/>
                  <a:ext cx="127800" cy="1281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2352960" y="5489280"/>
                <a:ext cx="960840" cy="2206080"/>
                <a:chOff x="2352960" y="5489280"/>
                <a:chExt cx="960840" cy="2206080"/>
              </a:xfrm>
            </p:grpSpPr>
            <p:sp>
              <p:nvSpPr>
                <p:cNvPr id="316" name=""/>
                <p:cNvSpPr/>
                <p:nvPr/>
              </p:nvSpPr>
              <p:spPr>
                <a:xfrm flipH="1">
                  <a:off x="2352960" y="5489280"/>
                  <a:ext cx="960840" cy="924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2353680" y="6414120"/>
                  <a:ext cx="127800" cy="1281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8" name=""/>
            <p:cNvGrpSpPr/>
            <p:nvPr/>
          </p:nvGrpSpPr>
          <p:grpSpPr>
            <a:xfrm>
              <a:off x="4114800" y="3886200"/>
              <a:ext cx="2286000" cy="1219320"/>
              <a:chOff x="4114800" y="3886200"/>
              <a:chExt cx="2286000" cy="1219320"/>
            </a:xfrm>
          </p:grpSpPr>
          <p:sp>
            <p:nvSpPr>
              <p:cNvPr id="319" name=""/>
              <p:cNvSpPr/>
              <p:nvPr/>
            </p:nvSpPr>
            <p:spPr>
              <a:xfrm>
                <a:off x="4114800" y="3886200"/>
                <a:ext cx="228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114800" y="4292640"/>
                <a:ext cx="228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114800" y="4699080"/>
                <a:ext cx="228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114800" y="5105520"/>
                <a:ext cx="228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609480" y="396252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09480" y="436896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480" y="477504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9480" y="518148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609480" y="7848720"/>
              <a:ext cx="5485680" cy="1066680"/>
              <a:chOff x="609480" y="7848720"/>
              <a:chExt cx="5485680" cy="1066680"/>
            </a:xfrm>
          </p:grpSpPr>
          <p:sp>
            <p:nvSpPr>
              <p:cNvPr id="328" name=""/>
              <p:cNvSpPr/>
              <p:nvPr/>
            </p:nvSpPr>
            <p:spPr>
              <a:xfrm>
                <a:off x="609480" y="7848720"/>
                <a:ext cx="548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09480" y="8204040"/>
                <a:ext cx="548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09480" y="8559720"/>
                <a:ext cx="548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09480" y="8915400"/>
                <a:ext cx="548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304560" y="1143000"/>
            <a:ext cx="6172200" cy="71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story opens a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blem in the story happens wh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blem in this story is solved when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story 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title"/>
          </p:nvPr>
        </p:nvSpPr>
        <p:spPr>
          <a:xfrm>
            <a:off x="380520" y="8458200"/>
            <a:ext cx="6172200" cy="3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bable Passage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are provided key elements of the story.  They predict what will happen, and complete the page. Then they compare what they read with what they predicted, and make modific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85800" y="259092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33520" y="167652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33520" y="214488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33520" y="307980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354816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33520" y="448452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828800" y="495288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33520" y="542124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33520" y="635652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09480" y="682452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33520" y="776124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895480" y="72946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33520" y="822960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200400" y="22860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main character w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80880" y="0"/>
            <a:ext cx="6019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le Passages for: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: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WL Outline for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380880" y="1523880"/>
          <a:ext cx="6172200" cy="5943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</a:tblGrid>
              <a:tr h="12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K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nk I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W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nk I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l lear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L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nk I have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rn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 category designations for “L”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1" name=""/>
          <p:cNvSpPr/>
          <p:nvPr/>
        </p:nvSpPr>
        <p:spPr>
          <a:xfrm>
            <a:off x="380880" y="7696080"/>
            <a:ext cx="6019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instorm and list what you know in the first column.  Write questions or statements in the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lumn about what you think you will learn.  Read the selection. Write what you have learned in the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lumn. Categorize what you have learn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38080" y="1447920"/>
            <a:ext cx="518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3" name=""/>
          <p:cNvGraphicFramePr/>
          <p:nvPr/>
        </p:nvGraphicFramePr>
        <p:xfrm>
          <a:off x="304920" y="457200"/>
          <a:ext cx="6172200" cy="8356680"/>
        </p:xfrm>
        <a:graphic>
          <a:graphicData uri="http://schemas.openxmlformats.org/drawingml/2006/table">
            <a:tbl>
              <a:tblPr/>
              <a:tblGrid>
                <a:gridCol w="6172200"/>
              </a:tblGrid>
              <a:tr h="218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3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ter learning about a topic, or reading a selection, students work individually to collect their thoughts and then in small groups in order to learn through social interactio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group shares its word and explains their reasons for choosing i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e down five words (on your own):</a:t>
                      </a:r>
                      <a:br>
                        <a:rPr sz="1800"/>
                      </a:br>
                      <a:br>
                        <a:rPr sz="1800"/>
                      </a:br>
                      <a:br>
                        <a:rPr sz="1800"/>
                      </a:b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on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The three words we (groups of two or three) decided on are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on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The one word our group decided on i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on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"/>
          <p:cNvGrpSpPr/>
          <p:nvPr/>
        </p:nvGrpSpPr>
        <p:grpSpPr>
          <a:xfrm>
            <a:off x="304920" y="1905120"/>
            <a:ext cx="6324480" cy="6858000"/>
            <a:chOff x="304920" y="1905120"/>
            <a:chExt cx="6324480" cy="6858000"/>
          </a:xfrm>
        </p:grpSpPr>
        <p:sp>
          <p:nvSpPr>
            <p:cNvPr id="355" name=""/>
            <p:cNvSpPr/>
            <p:nvPr/>
          </p:nvSpPr>
          <p:spPr>
            <a:xfrm>
              <a:off x="304920" y="1905120"/>
              <a:ext cx="632448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57200" y="2133720"/>
              <a:ext cx="58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tegories that the ideas fit in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ircle Map</a:t>
            </a:r>
            <a:br>
              <a:rPr sz="40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ents organize their thoughts and discover links between concepts. Working in groups, students put ideas into context through their own and others’ points of vie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1447920" y="3314880"/>
            <a:ext cx="4038480" cy="4038480"/>
            <a:chOff x="1447920" y="3314880"/>
            <a:chExt cx="4038480" cy="4038480"/>
          </a:xfrm>
        </p:grpSpPr>
        <p:sp>
          <p:nvSpPr>
            <p:cNvPr id="359" name=""/>
            <p:cNvSpPr/>
            <p:nvPr/>
          </p:nvSpPr>
          <p:spPr>
            <a:xfrm>
              <a:off x="1447920" y="3314880"/>
              <a:ext cx="4038480" cy="4038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933640" y="4800600"/>
              <a:ext cx="1067040" cy="1066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048120" y="510552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op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057400" y="3809880"/>
              <a:ext cx="289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ords/Ideas/Knowledge about the topi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457200" y="746748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arizing sentences&gt;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.I.N.K.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st, Inquire, Note and Kn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343080" y="2133720"/>
          <a:ext cx="6172200" cy="6678000"/>
        </p:xfrm>
        <a:graphic>
          <a:graphicData uri="http://schemas.openxmlformats.org/drawingml/2006/table">
            <a:tbl>
              <a:tblPr/>
              <a:tblGrid>
                <a:gridCol w="6172200"/>
              </a:tblGrid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s use this activity to activate prior knowledge and maintain focus on their studies.  Students write what they know about a topic, ask others about the topic, add new ideas to their list, and then discuss the topic as a group.  At this point students are prepared to learn more about the topi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 students a key term phrase or word that represents the topi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ve students list what they know about the ter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l on each student for a response.  Write the response on the board or overhea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ve students ask each other about their responses.  The teacher at this point is a facilitator. Students should try to determine why other students responded as they di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de the responses and have students turn their papers ov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6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ve students write down everything they know about the topic now.  Limit the time to one minut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6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ctured Note 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380880" y="1143000"/>
          <a:ext cx="6172200" cy="7194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</a:tblGrid>
              <a:tr h="9144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ic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8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lems?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s that caused these problems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utions to the problems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8" name=""/>
          <p:cNvGraphicFramePr/>
          <p:nvPr/>
        </p:nvGraphicFramePr>
        <p:xfrm>
          <a:off x="304920" y="457200"/>
          <a:ext cx="6172200" cy="8636040"/>
        </p:xfrm>
        <a:graphic>
          <a:graphicData uri="http://schemas.openxmlformats.org/drawingml/2006/table">
            <a:tbl>
              <a:tblPr/>
              <a:tblGrid>
                <a:gridCol w="6172200"/>
              </a:tblGrid>
              <a:tr h="219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ed Reading/Thinking Ac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ic: _________________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-read text by examining the title, subtitles, pictures, and first paragraph.  Make predictions about the story. Fill out parts #1-3 of the graphic organizer.  Finish reading the selection and make any changes.  Complete #4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I know I know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I think I know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I think I will learn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I know I learn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90640" y="1066680"/>
            <a:ext cx="304812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90640" y="2590920"/>
            <a:ext cx="304812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4267080"/>
            <a:ext cx="51051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5638680"/>
            <a:ext cx="9903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08160" y="5638680"/>
            <a:ext cx="9907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54560" y="5638680"/>
            <a:ext cx="9903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00600" y="5638680"/>
            <a:ext cx="9907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2133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12952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09680" y="28195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 Essential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43000" y="44956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jor Concepts/ Skills/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0"/>
            <a:ext cx="57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ent Map for Uni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43000" y="914400"/>
            <a:ext cx="22096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43000" y="2438280"/>
            <a:ext cx="220968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57913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66880" y="57913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48320" y="57913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121932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448240" y="274320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448240" y="419112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2057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352680" y="1752120"/>
            <a:ext cx="21337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52680" y="3048120"/>
            <a:ext cx="21337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52680" y="3048120"/>
            <a:ext cx="205740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1066680" y="3733920"/>
            <a:ext cx="106704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33720" y="3733920"/>
            <a:ext cx="160020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33720" y="3733920"/>
            <a:ext cx="365760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22860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is it?            (Write the defini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6668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23880" y="655308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are some exampl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00600" y="6858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is it lik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00400" y="0"/>
            <a:ext cx="0" cy="914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41148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52480" y="3276720"/>
            <a:ext cx="2895840" cy="1752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09680" y="3886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41148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6920" y="41911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n-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1514520" y="2171880"/>
            <a:ext cx="3905280" cy="3528720"/>
            <a:chOff x="1514520" y="2171880"/>
            <a:chExt cx="3905280" cy="3528720"/>
          </a:xfrm>
        </p:grpSpPr>
        <p:sp>
          <p:nvSpPr>
            <p:cNvPr id="92" name="_s8196"/>
            <p:cNvSpPr/>
            <p:nvPr/>
          </p:nvSpPr>
          <p:spPr>
            <a:xfrm flipH="1">
              <a:off x="2526840" y="4613400"/>
              <a:ext cx="468360" cy="27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8197"/>
            <p:cNvSpPr/>
            <p:nvPr/>
          </p:nvSpPr>
          <p:spPr>
            <a:xfrm>
              <a:off x="1514520" y="4614840"/>
              <a:ext cx="1085760" cy="1085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8198"/>
            <p:cNvSpPr/>
            <p:nvPr/>
          </p:nvSpPr>
          <p:spPr>
            <a:xfrm>
              <a:off x="3936960" y="4614840"/>
              <a:ext cx="469800" cy="27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8199"/>
            <p:cNvSpPr/>
            <p:nvPr/>
          </p:nvSpPr>
          <p:spPr>
            <a:xfrm>
              <a:off x="4334040" y="4613400"/>
              <a:ext cx="1085760" cy="1085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8200"/>
            <p:cNvSpPr/>
            <p:nvPr/>
          </p:nvSpPr>
          <p:spPr>
            <a:xfrm flipV="1">
              <a:off x="3467160" y="3257640"/>
              <a:ext cx="0" cy="54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8201"/>
            <p:cNvSpPr/>
            <p:nvPr/>
          </p:nvSpPr>
          <p:spPr>
            <a:xfrm>
              <a:off x="2924280" y="2171880"/>
              <a:ext cx="1085760" cy="1085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8202"/>
            <p:cNvSpPr/>
            <p:nvPr/>
          </p:nvSpPr>
          <p:spPr>
            <a:xfrm>
              <a:off x="2924280" y="3800520"/>
              <a:ext cx="1085760" cy="1085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1219320" y="45720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mantic Mapp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29000" y="7621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antic Feature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43080" y="2133720"/>
          <a:ext cx="6172200" cy="6033960"/>
        </p:xfrm>
        <a:graphic>
          <a:graphicData uri="http://schemas.openxmlformats.org/drawingml/2006/table">
            <a:tbl>
              <a:tblPr/>
              <a:tblGrid>
                <a:gridCol w="771480"/>
                <a:gridCol w="771480"/>
                <a:gridCol w="771480"/>
                <a:gridCol w="771480"/>
                <a:gridCol w="771480"/>
                <a:gridCol w="771480"/>
                <a:gridCol w="771480"/>
                <a:gridCol w="771840"/>
              </a:tblGrid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43000" y="990720"/>
            <a:ext cx="3809880" cy="12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2647800"/>
            <a:ext cx="380988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4305240"/>
            <a:ext cx="380988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5962680"/>
            <a:ext cx="380988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7620120"/>
            <a:ext cx="6019920" cy="12189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7315200"/>
            <a:ext cx="6172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6095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6400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10666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7620120"/>
            <a:ext cx="58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 Idea or Main 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26668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43434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59436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2:16:33Z</dcterms:created>
  <dc:creator>RESA</dc:creator>
  <dc:description/>
  <dc:language>en-US</dc:language>
  <cp:lastModifiedBy>melissa.smith</cp:lastModifiedBy>
  <dcterms:modified xsi:type="dcterms:W3CDTF">2007-07-16T20:09:20Z</dcterms:modified>
  <cp:revision>4</cp:revision>
  <dc:subject/>
  <dc:title>Slide 1</dc:title>
</cp:coreProperties>
</file>